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685-06B9-4817-BA80-3969AE39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253-49C9-43D1-82B3-FDD2732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AB5-2E09-419D-B686-CC8B60A5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9C2-B014-43EC-994D-23ED87F5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A69B-EF5F-4573-AB3A-6966723F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2C33-458F-45D0-84D9-D033C6B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FA9-DE44-4887-9F4C-0F8AE7BA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2E0-17F9-481A-B13B-63BB17BC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6E2-F1B2-4E82-894D-C1AD0AD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AED8-9393-4EE7-9242-6ED6231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749-31F4-4C32-97F8-B50E812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0E0-D83F-44F2-BCBD-AD33117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9651-AE94-4749-8307-BE3301A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4879-D54A-459D-BBC8-E58F1878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53F1-7149-49D3-8165-165984F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A3A-977C-4805-B646-D61726A1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0A9-6684-49ED-8AC6-CAF20329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96B-6ADB-4F51-AE5A-0BBDAE7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A13-86C8-4A6B-9060-17643F2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37B-13EF-4124-B65E-B6D9DD3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EF1-88A9-4C74-90B9-0FEA278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B4-A23A-4394-AE53-D18B54A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460-2699-4851-9190-C74D95A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C57-D464-4D38-9F3D-8DB19A8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971800" y="6477120"/>
            <a:ext cx="3200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A9E7-DE69-4B56-B7C3-1196FA8DE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5F6-6D19-4092-AD56-B291CAB72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164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6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 % of 8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8160" y="9907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29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9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 % of 7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8160" y="914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71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99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percent of this numb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213372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9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895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0080" y="28954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365760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419720"/>
            <a:ext cx="27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15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257800"/>
            <a:ext cx="27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152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1055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572000" y="640080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49960" y="990720"/>
            <a:ext cx="51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 % of 69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1143000"/>
            <a:ext cx="99036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0960" y="990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828800" y="2133720"/>
            <a:ext cx="99072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1752480"/>
            <a:ext cx="3049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9360" y="793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143000"/>
            <a:ext cx="106668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8160" y="914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71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992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67680" y="1776240"/>
            <a:ext cx="7410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cgl.microsoft.com/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can be defined as “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hundre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962520"/>
            <a:ext cx="403848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1295280"/>
            <a:ext cx="6095880" cy="106704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 parts out of 100 or 2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6095880" cy="5257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s Have Equivalents in Decimals and Fractio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03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06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thing to remember is “of” means multiply in mathematic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581280"/>
            <a:ext cx="1600200" cy="2514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960" y="41148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581280"/>
            <a:ext cx="1600200" cy="2514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When you see a percent problem you know when you read “of” in the problem you multip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114800"/>
            <a:ext cx="539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25% of 2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191120"/>
            <a:ext cx="1219320" cy="1295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7480" y="4038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82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– Change your percent to a decimal and then move it two places to the lef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5240" y="3675240"/>
            <a:ext cx="5025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25% x 2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066680" cy="99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35146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4952880"/>
            <a:ext cx="14475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1640" y="350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886200"/>
            <a:ext cx="1066680" cy="990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121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3 – Multiply just like a regular decimal multiplication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43828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520" y="32004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267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96252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724280"/>
            <a:ext cx="228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5791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7760" y="5562720"/>
            <a:ext cx="221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the Percent of a Whole Numb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121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– Place the decimal point 2 places to the left in your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438280"/>
            <a:ext cx="170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x 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5520" y="320040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267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962520"/>
            <a:ext cx="22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648320"/>
            <a:ext cx="228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+4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7150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7760" y="5410080"/>
            <a:ext cx="221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52578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190760" y="6477120"/>
            <a:ext cx="9903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Monica/Bob Yuskaitis</cp:lastModifiedBy>
  <dcterms:modified xsi:type="dcterms:W3CDTF">2000-02-24T15:22:56Z</dcterms:modified>
  <cp:revision>18</cp:revision>
  <dc:subject/>
  <dc:title>Percent</dc:title>
</cp:coreProperties>
</file>